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7F21-9E58-45B3-AD71-8A7E2616F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CAF4-3B5B-4842-8E83-759F3CF9D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25C6-1E6B-4364-9937-75B0A698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0B17-4E64-4646-AB06-45CF580C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AE9C-8760-4692-A7EB-F89D60DE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4F6C-C7E0-4FC5-99FA-5F121546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7149-C33E-4F40-8DD9-FCED62C9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C444-E8C8-49C4-87A9-940423E8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C1C8-359B-49B4-85DD-2CB82647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580B-A073-4E3E-A4A6-8F0F8BD5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9F2B-C3E7-4F87-AE43-0A59B9C8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8C4D-B817-4EB6-BC61-55338993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83FF-597B-47BF-BA00-3B274ECB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8416-38B2-441E-ABFC-C2594FD5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2B99-D1EE-479E-B046-2CAD4436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F4A1-8918-4CB9-9387-018BD72A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5BE5-1805-4630-AD5A-C5C0C095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3B36-4EAD-497A-A893-FD7D1739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8E70-1ADA-41B5-826F-1C288467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DF034C-9ECC-4897-A60C-2F353ABB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A56A25-8AFB-4DC9-9AC2-8B56DCCA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9C9481-786A-4F2E-9E4C-6C5479CA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3537D4-0774-4AC2-A9FA-163FB9AD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158844-6180-450F-8D11-5F30A4AC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47F7-6EB0-444E-9E34-7859A772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300277-4519-4138-A54B-A5B81B5B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635075-BA60-434E-9BB7-96CD9DF0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0E75A8-2131-4448-857C-95554E7F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6871F6-AE06-4A59-A856-8C70328C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784A75-5B45-4C81-B421-B0F85CCB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F7FCB-957A-4CCA-B44E-DC6273F52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6B5117-3329-4ED9-90E8-652C669C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B3F2D-3705-4F5A-A7DD-D5A07E60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37995-4866-488E-B9AC-8B04039E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7C111-F8DD-497A-A439-F510AA23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C8D9-06F4-42B0-9C3E-015A0FE7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2FE0B-55B0-44ED-A53D-ADF2C8A9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F03F5-C869-41B4-9818-5A3316A6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3B80F-CAB0-4062-98D0-F76D7F9B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F043D-62CB-4AEB-8CD0-1E1EDE7B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DC513-4651-4F64-BE03-A87EDF00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731C9-DD59-4F4D-B73F-B503232D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A052F-9890-45AD-95B8-959909CE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B0142-709A-4BDA-A978-1864E139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F5F4D-535C-4004-BC04-4DD4A197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2EC2-4CCA-4E3D-B6B0-C1EDEAFD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4027-B01D-436C-8224-A2B611A3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B946-E5FE-4737-ADC1-09028781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AD1-3589-4374-B231-EAB3BA97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4842-E921-40CF-B954-5F871D5B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4B7B-BAB9-4A9A-9D18-3CF006018ECE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D302-DE8F-4638-9F96-579CBD968623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B33E-9EDD-4290-9AF7-9EA516C52227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BE02-20D1-40BE-8E7A-2DAF806A8B90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fredericton.ca/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nasismiddle.nbed.nb.ca/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nasismiddle.nbed.nb.ca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hyperlink" Target="http://nasismiddle.nbed.nb.ca/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hyperlink" Target="http://nasismiddle.nbed.nb.ca/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lummer.wikispaces.com/" TargetMode="External"/><Relationship Id="rId2" Type="http://schemas.openxmlformats.org/officeDocument/2006/relationships/hyperlink" Target="http://www.votemiller2008.wikispaces.com/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nasismiddle.nbed.nb.ca/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overitlive.com/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52840" y="1101240"/>
            <a:ext cx="3382920" cy="8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Trebuchet MS"/>
              </a:rPr>
              <a:t>Soccer Moms &amp; Hockey Dads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52840" y="2011320"/>
            <a:ext cx="33829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Leveraging Technology to Communicate with Parents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Content Placeholder 6" descr="soccer mom.jpg"/>
          <p:cNvPicPr/>
          <p:nvPr/>
        </p:nvPicPr>
        <p:blipFill>
          <a:blip r:embed="rId1"/>
          <a:stretch/>
        </p:blipFill>
        <p:spPr>
          <a:xfrm>
            <a:off x="609480" y="914400"/>
            <a:ext cx="3056040" cy="30560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Hockey dad.jpg"/>
          <p:cNvPicPr/>
          <p:nvPr/>
        </p:nvPicPr>
        <p:blipFill>
          <a:blip r:embed="rId2"/>
          <a:stretch/>
        </p:blipFill>
        <p:spPr>
          <a:xfrm>
            <a:off x="5257800" y="3581280"/>
            <a:ext cx="2933640" cy="2934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Cdn fla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01000" y="533520"/>
            <a:ext cx="981000" cy="493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nms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5410080"/>
            <a:ext cx="1452600" cy="10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eveloping a strong relationship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formation gathering- phone #’s, e-mails, etc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formation sharing- homework blogs, wiki’s, progress reports, etc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“First Impression” is importa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se steps will make the “in-person” introduction much easier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 surprises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Picture 3" descr="Cdn flag.jpg"/>
          <p:cNvPicPr/>
          <p:nvPr/>
        </p:nvPicPr>
        <p:blipFill>
          <a:blip r:embed="rId1"/>
          <a:stretch/>
        </p:blipFill>
        <p:spPr>
          <a:xfrm>
            <a:off x="7696080" y="685800"/>
            <a:ext cx="1133640" cy="571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nm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5791320"/>
            <a:ext cx="94284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arents are more INVOLVED!!!!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rents know what their kids are do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chool spirit- “Friends of NMS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ccess school info from work- NMS blo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the ca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 the rin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ver dinn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’s all at their fingertips..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 surprises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Picture 3" descr="bberry.jpg"/>
          <p:cNvPicPr/>
          <p:nvPr/>
        </p:nvPicPr>
        <p:blipFill>
          <a:blip r:embed="rId1"/>
          <a:stretch/>
        </p:blipFill>
        <p:spPr>
          <a:xfrm>
            <a:off x="6400800" y="3809880"/>
            <a:ext cx="2211480" cy="2752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Cdn flag.jpg"/>
          <p:cNvPicPr/>
          <p:nvPr/>
        </p:nvPicPr>
        <p:blipFill>
          <a:blip r:embed="rId2"/>
          <a:stretch/>
        </p:blipFill>
        <p:spPr>
          <a:xfrm>
            <a:off x="7772400" y="685800"/>
            <a:ext cx="1133640" cy="571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nm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5943600"/>
            <a:ext cx="94320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arkbook- tracking progres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22096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rking softwa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rganize parental contact inf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hare detailed progress reports w/ par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 surprises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3" descr="report cards.jpg"/>
          <p:cNvPicPr/>
          <p:nvPr/>
        </p:nvPicPr>
        <p:blipFill>
          <a:blip r:embed="rId1"/>
          <a:stretch/>
        </p:blipFill>
        <p:spPr>
          <a:xfrm>
            <a:off x="2971800" y="4191120"/>
            <a:ext cx="2743200" cy="2460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Cdn flag.jpg"/>
          <p:cNvPicPr/>
          <p:nvPr/>
        </p:nvPicPr>
        <p:blipFill>
          <a:blip r:embed="rId2"/>
          <a:stretch/>
        </p:blipFill>
        <p:spPr>
          <a:xfrm>
            <a:off x="7696080" y="685800"/>
            <a:ext cx="1133640" cy="571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nm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5867280"/>
            <a:ext cx="94284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ikispac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sson and unit plan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inual access to notes, presentations and assignm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ny subjects, one wik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llness? Vacation? Stay up to date!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ed wiki help? Go to Jeff Whipple’s wiki presentation during the conferenc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Shauna's wikispac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Rob’s wikispa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3" name="Picture 3" descr="Cdn flag.jpg"/>
          <p:cNvPicPr/>
          <p:nvPr/>
        </p:nvPicPr>
        <p:blipFill>
          <a:blip r:embed="rId3"/>
          <a:stretch/>
        </p:blipFill>
        <p:spPr>
          <a:xfrm>
            <a:off x="7696080" y="762120"/>
            <a:ext cx="1133640" cy="571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nm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0880" y="5943600"/>
            <a:ext cx="94320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1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1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ocial Media…it’s not just for kids!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iends of NMS- growing every year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rents witness student crea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acebook- project creation and shar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witter- share thoughts, ideas and inf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Cover it Liv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7" name="Picture 3" descr="Cdn flag.jpg"/>
          <p:cNvPicPr/>
          <p:nvPr/>
        </p:nvPicPr>
        <p:blipFill>
          <a:blip r:embed="rId2"/>
          <a:stretch/>
        </p:blipFill>
        <p:spPr>
          <a:xfrm>
            <a:off x="7772400" y="685800"/>
            <a:ext cx="1133640" cy="571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nms.jpg"/>
          <p:cNvPicPr/>
          <p:nvPr/>
        </p:nvPicPr>
        <p:blipFill>
          <a:blip r:embed="rId3"/>
          <a:stretch/>
        </p:blipFill>
        <p:spPr>
          <a:xfrm>
            <a:off x="380880" y="5638680"/>
            <a:ext cx="94320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1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1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52840" y="1318680"/>
            <a:ext cx="33829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52840" y="2011320"/>
            <a:ext cx="33829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51920" y="775800"/>
            <a:ext cx="5102280" cy="58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ometimes even the best laid plans…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52" name="ShockwaveFlash1"/>
          <p:cNvGraphicFramePr/>
          <p:nvPr/>
        </p:nvGraphicFramePr>
        <p:xfrm>
          <a:off x="457200" y="1752480"/>
          <a:ext cx="76183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7618320" cy="5105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Reality bites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ime consuming- do it righ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suse of technology- trust and supervi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ccountability- excuses still exi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 AWARE OF TONE- edit!!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t “courage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eate an –mail folder to save ALL parental communic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nable to reach everyone- Be confident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6" name="Picture 3" descr="Cdn flag.jpg"/>
          <p:cNvPicPr/>
          <p:nvPr/>
        </p:nvPicPr>
        <p:blipFill>
          <a:blip r:embed="rId1"/>
          <a:stretch/>
        </p:blipFill>
        <p:spPr>
          <a:xfrm>
            <a:off x="7696080" y="685800"/>
            <a:ext cx="1133640" cy="571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nms.jpg"/>
          <p:cNvPicPr/>
          <p:nvPr/>
        </p:nvPicPr>
        <p:blipFill>
          <a:blip r:embed="rId2"/>
          <a:stretch/>
        </p:blipFill>
        <p:spPr>
          <a:xfrm>
            <a:off x="380880" y="5943600"/>
            <a:ext cx="94320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Q &amp; 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w it’s your tur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eel free to ask questions, or join our cha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act inf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hauna- shauna.plummer@nbed.nb.c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ob- robert.miller@nbed.nb.c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llow Rob on Twitter (miller73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0" name="Picture 3" descr="Cdn flag.jpg"/>
          <p:cNvPicPr/>
          <p:nvPr/>
        </p:nvPicPr>
        <p:blipFill>
          <a:blip r:embed="rId1"/>
          <a:stretch/>
        </p:blipFill>
        <p:spPr>
          <a:xfrm>
            <a:off x="7696080" y="838080"/>
            <a:ext cx="1133640" cy="571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nms.jpg"/>
          <p:cNvPicPr/>
          <p:nvPr/>
        </p:nvPicPr>
        <p:blipFill>
          <a:blip r:embed="rId2"/>
          <a:stretch/>
        </p:blipFill>
        <p:spPr>
          <a:xfrm>
            <a:off x="609480" y="5562720"/>
            <a:ext cx="943200" cy="704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3T00:14:44Z</dcterms:created>
  <dc:creator>Robert.Miller</dc:creator>
  <dc:description/>
  <dc:language>en-US</dc:language>
  <cp:lastModifiedBy>Robert.Miller</cp:lastModifiedBy>
  <dcterms:modified xsi:type="dcterms:W3CDTF">2009-07-21T14:41:54Z</dcterms:modified>
  <cp:revision>85</cp:revision>
  <dc:subject/>
  <dc:title>Soccer Moms &amp; Hockey Dads</dc:title>
</cp:coreProperties>
</file>